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943F-7AD0-4585-BAFF-1476F785F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B4FE-8ABA-428F-9DBB-B02ACC758002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6A3E-79F6-4EBC-BD76-479934F9A634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F84E-3C1A-44AF-8AAD-1F45BC99D6A6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A01-7B08-4F06-96FE-3E82945A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1CC-4EDE-4A4F-8337-D340FD3A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F4C-5211-40A2-9CB7-1FAE11F3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D8D-1A94-49A7-87E6-F2D92142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6448-0C4D-4C71-8D60-9C850077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F366-DB9C-4766-988D-E7EE68B3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C51D-9E44-45A3-91A5-9169B73B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7CBB-D6A3-4CAF-ABAB-7B9FEB98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A403-377C-4982-AFD2-B32613F0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9D15-177D-445A-B3AA-B9DDC5A9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30CB-0FC8-4935-808F-7CEF7C1C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6F2-034B-4B61-B048-0AAC9328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3574-170B-4C98-B28F-6E0B4256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F372-42E9-45C3-9C41-C2F4A18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BCF0-525A-4F7F-8A9D-84ED044A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9F06-FAC1-427E-BA70-D3A24325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33A5-5A96-417E-B83A-72DF1455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B205-430C-479A-A263-11FE5749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E86D-C028-45AB-9BD6-0D6B873F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2301-682B-4945-A28C-628903D7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1E65-E5CC-4668-9487-4EC3838A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AB44-E9BE-4B37-A07B-F71D1FA7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D7E-14D4-42BE-AE71-64A3F7B6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E6126-8509-4E3E-B521-7A41FF80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210F6-211A-4150-BA31-0F7DFD20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A384-07B4-46B6-AEE8-E1FE9009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6C1C-A0ED-4C5E-BCDF-A0EF0FB9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B5DB1-113D-45B7-83B1-AAB2CBB8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84DA-6E0D-4EF7-9F9F-16CCE74B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18EE-7B71-488E-9B99-DAD7E0BE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E06D-88C4-4D5F-AECE-B23440F1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E966-63C8-468C-AD86-F6271708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FF42-1546-4D5A-83EE-97B3092B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8F7-486D-4C90-8AE2-5AA66CCE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CBF72-0ADB-4798-85D2-A2F82FB0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2E00A-A41F-41A1-835D-45905FB6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8E5A5-3365-40A0-96F6-034709E2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726F-A21A-4800-8710-A699FE82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EE1A7-A69D-4E2E-89E6-1C77042C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45098-4530-414A-B1A3-3807D410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F4E6-6FA5-4312-9140-24B661BB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66B9-EC70-4795-A708-0D01861A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D5185-F35E-45A8-8EA5-D38F8897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AEDA5-FCF0-48E0-9391-CF028ADF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4FA-01F2-4B42-9423-EBB4FE04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06FBC-FCCE-4C07-B5E4-A01D938D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3BB88-139A-42C4-AEB0-11165095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44C10-F057-405D-88EF-1643FF21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8B06E-9DA1-49A4-A405-FCCB7727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478BF-3A36-479A-8290-E12CA67A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C64FB-03DE-4A8F-8852-A796603E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C34E9-8C8A-448C-8835-BE560687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BE9EF-897C-40E9-9D8E-EF359168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FA0CA-BD40-4448-A9F5-64AB0EE2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CBE20-9199-45F9-8B2F-2DC2B6CC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870-85A9-4A00-94AE-C1C107D4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D08FF-0884-41B0-81A1-929BD85D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1FA17-1758-490A-B358-1D23D7C6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0BEAF-6A6C-41D4-8E87-E54FE05E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6E023-067A-4DEB-BA53-E2D00A05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50D32-5CB1-4A1F-ABDF-910DBE93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E2C65-9313-434F-B55A-314AD598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B1E80-A494-4059-860A-340EA068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4B95D-03B4-4C96-9B8F-7CA58EA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DF6A6-900F-4D17-9DC6-BF23EDBF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16729-7713-4B36-B1B7-53C89A3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2B1-2045-4AD7-B61D-38027734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1B61-D720-420E-B0DE-9B399401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3DE42-B7D9-4A88-AB15-C3D49AC9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48F99-76DD-4B1C-8E3D-3367B049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85C7E-8836-4812-A811-D31FF309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F37B1-3C05-4CE2-A92E-ACE32654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3CAE7-3216-43A2-9F95-D04FC74F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96FA2-2F38-4170-889E-CDF261C6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FCA05-F1CF-4FA9-8ED1-4814AD84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83CB7-76CC-438D-8052-A65ADE02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D8AB0-A8A1-42D6-BD3C-DEF30493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8AA-6AC1-48B2-A012-B4491FE4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A15C3-B268-4B84-BA66-50614D27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09FAF-1043-4F8D-8391-D7C09C55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1F155-0619-456E-9B12-4C102A2C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A6CFE-33E4-473A-A106-CFEB7823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1097A-936F-4C89-8EE9-17EC5BA1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F54C7-0711-412D-BF19-9325D1EE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67BA7-9DB4-41BC-9582-C3D9C033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633EF-3C52-40F1-80D9-6341B74D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5259B-CE65-4C31-A7A5-36E2A965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E71A9-648F-4BAD-B38F-232B50F0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90C-855B-4ECA-8018-36297003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2C696-41C8-45B1-91E5-6B7386E2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1CF26-EB08-47A0-9B3F-B37A25ED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2074A-D159-468C-99F0-C0F6DBF8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2FFE6-7CA4-484F-ADD1-E222AE8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2C042-CBF9-4B2A-AA24-7C80B83B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6F355-138A-4D2B-B39F-8A3C3D9E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9DA41-D5B2-4108-8852-878E49BF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E2EE-DC15-4BB2-AEB5-03FFB405FF5B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5EEE-4E29-4C98-AFB3-B548E01C2B4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1E45-A905-451B-9412-C6DC85C16A99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89CE-F97E-4A37-906B-4CF6040C805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F405-5176-48F6-8AE4-EF99A13F0EB9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06ED-283E-4BF5-BCC4-CEB87F38CEB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6D11-D085-40E6-BE36-D65D3342B1AD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21CB-848B-4B34-8D5A-4053F2E5F9F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28AA-A95E-43ED-9673-0D3A3497B18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6A2E-1C8D-412E-9520-95C64F4FCDE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4C45-B132-4271-B7A2-9B61E625C1CA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9F24-5073-48E3-B4DA-FB46D0244E6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473F-8F90-45C4-B946-D80BBF627596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927B-39B3-4217-A55E-6825FF0A897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Rechte verbindingslijn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50D4-C201-4594-99DC-88157B6365FD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C1F7-D9DD-496D-A3B1-EB92266B460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4400" y="386064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Towards a decision making support too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64653"/>
                </a:solidFill>
                <a:latin typeface="Bookman Old Style"/>
              </a:rPr>
              <a:t>that suits your nee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838080" y="260280"/>
            <a:ext cx="75502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Criteria for a tool (in small groups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300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hat hampers today the promotion of site-specific interventio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hat type of information should this tool give you? To the extension service? to the ngo? To the community and farmer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hat is the best format for a tool?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paper based, computer based? Other options?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If computer based : which programs are availables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For which of the program is training needed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64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C49C-478A-436C-91CA-0160971182F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7380360" y="6157800"/>
            <a:ext cx="1763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Our first idea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39640" y="12207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4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2746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7499-224C-456F-8AD2-0B547C5CA06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1"/>
          <a:stretch/>
        </p:blipFill>
        <p:spPr>
          <a:xfrm>
            <a:off x="7380360" y="6157800"/>
            <a:ext cx="1763640" cy="700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97758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Our major questio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there are a need for maps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f yes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Should they be interactive?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o what extend shall they include short term changing data (=need to adjust regularly)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 we look at individual farmers only, or do we include communal management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there a need for an impact map?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C91E-B67A-4FA0-A1B5-65AC4E25F9C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7380360" y="6157800"/>
            <a:ext cx="1763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7:35:18Z</dcterms:created>
  <dc:creator>Catherine -user</dc:creator>
  <dc:description/>
  <dc:language>en-US</dc:language>
  <cp:lastModifiedBy>Catherine -user</cp:lastModifiedBy>
  <dcterms:modified xsi:type="dcterms:W3CDTF">2011-03-28T21:05:06Z</dcterms:modified>
  <cp:revision>21</cp:revision>
  <dc:subject/>
  <dc:title>PowerPoint-presentatie</dc:title>
</cp:coreProperties>
</file>